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8301-B7CC-4B32-BD6D-D8821EF863B2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E34F-E5B8-419B-A4AC-12B2C8C711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2140-0F59-4B14-9188-94D518EF9817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AC3E-FAB6-4406-8AA4-39E2999C0CF7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3283-DEC9-4D37-8832-C3F2C165974A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77E5-3085-471A-B337-206C27D36800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16A3-2896-4527-90E8-6B2247F798B3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7441-78AE-46BC-8848-8E51CD94C550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AA0-ACFA-4CF5-A2CE-88F2969D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A3C-28CF-40B9-88A8-7E561D03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0B4-7DCA-43D7-AF2E-1E575709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ADC-081C-49C8-9ED6-443F1EAE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B9A7-ECD9-4FA9-84BB-40DFFB8D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794F-4348-4DC7-927C-3A706E6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B748-D7FB-457B-AE58-19E633ED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6FB7-3389-4B5B-B518-31EBAF24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E805-4DF7-46DB-8276-356A92D1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9248-3479-42A0-85DA-C735620B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ED9C-39CD-4E34-8422-D2D5DD71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A23-2796-4D26-A87F-E14E5EDA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F2E7-28C6-40E1-9FEE-3953712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1239-7243-4092-A50E-C93855B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F475-A858-43AE-BDE1-1BFDCEBB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B10-E20C-4AE2-BBD1-7CCD42F0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1CFB-27F5-4785-873D-5E776EB3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7263-BC63-474A-8F52-587B8ACD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3F87-3ED1-496B-8689-7B7A1BE7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A681-786A-4E1F-AB2D-18C0B74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EA32-7E1D-42EE-8A9E-D40D3B5E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FA70-A530-490E-8012-4C47DFFD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321-E237-4FFE-A1E8-FE9CEA61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484B-D7B6-479E-8ABB-03FE42C8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2C5E-0CDF-4C16-AB1A-0BB644B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94EA-6B5E-4BA0-A8EC-0F9609FD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BBD0-E2B5-47A0-AFF1-58124ECD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CC0F-4673-46B5-B846-0EA377E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4FB5-32DE-40C6-BC45-E3B49D25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A031-7219-4807-B566-DEF11A98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CF37-B69A-454D-984F-1162CD41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A96E-08CD-4B5A-A155-49705656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2A21-E5B1-4064-A873-15EF9F5A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6A4-98F0-4570-BD39-88C9C185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273B-3409-4751-B95E-DD44515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A6E1D-1517-41E8-BBE4-EE45F7C7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084A6-09EB-4E18-A8B9-2A0AB284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BEAD-29F0-4EF9-A7EE-168046B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82A1-1710-48AB-95E6-4AFE5CBD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5D28-6A83-4791-A0C0-EE64E93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9F87-B4AF-4C73-A147-803812BA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42C7-D53D-47FC-B341-35947EF1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99CB8-BC29-45E5-BB70-F8AE2657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D607-17E3-4330-BF16-5625EEE0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A3E-AE8E-409A-A345-3997B20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973BE-0324-4BEB-A0E6-8961ACF5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0040-98AB-4875-98EC-9A65B360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D109-DC70-40AE-BCFF-34C7F59D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3E0A-A179-4E85-8665-7DF351E3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F101E-BC7C-4E2A-99CD-05993B28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F47A-9B6F-4D5C-9115-EAABBE6D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9755-31E9-49D0-9AC6-2BBE7C97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1689-40C8-49A4-AE4C-51091D25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DC54-DBBD-4C2C-BFE5-89DF83E6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E9E14-5C33-468F-894E-C5EE0FB8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FBF-96F1-4F47-BECE-33A4A3FF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864AA-9B2C-411E-BEDE-DA88A4AD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BC56-8AEC-49E1-915F-54379C64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9C22-DD66-4511-8780-ACE511C6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6482D-8C84-4BFC-977A-660FEF33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8899B-CF90-4855-92E6-B68B99F0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8064-45C9-46D4-9E3E-97BBA1A3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3EF35-DFD0-4496-8677-BCEAEFFE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3F8F9-AF41-4D4A-BD26-016C7971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3BF4C-C747-4367-A5A0-3A48A554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A5ABE-4702-4FAE-8FB2-9433FC25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4DC-201F-4AB1-8765-A89E7D2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6ECF4-58A3-45B0-99FA-68ECF140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F9B37-F2C0-4C50-94B2-039C003A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1F3D5-A2B5-4051-9936-60A29393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41D46-7268-4391-A778-6EAA54FC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99B63-F6A0-41F6-89DD-83739DD8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73097-FF41-44F1-8874-2400049C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3644D-9E4A-4F5D-911F-023876E3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C3E5-C80C-49A9-982B-8C7BC4D5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31774-B03B-41CC-A39C-88309F49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00EE7-A642-4E26-980E-36F71DB2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DC5-FC78-4070-8602-D56D50C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189A5-1EC1-4F18-99E8-A0C4C41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72B94-41D6-48BC-9EA8-515D0992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38C2-AD22-4900-B50E-8DBF8F74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B33DB-97B0-43BC-8D03-89DDA5D1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27F2A-C461-45A0-8FD0-7F82B9EA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A9E-ACF4-408E-9DAC-D972FC1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C52A-A42F-4181-92F9-767E4B4743FC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0F90-B7B3-4931-8458-32A420FA7DE0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F84B-9FE4-4B09-915C-0E750B53735C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A9C2-6066-49CE-AB10-FA4657FCE00A}" type="slidenum">
              <a:rPr b="0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2B70-097D-4144-9E40-6C8D8FD239EA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A21A-9865-4B32-8D6E-BB5E35D5FE3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03B7-3EEB-4B3E-9559-728C84B57BA8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46844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542880" y="2249640"/>
            <a:ext cx="8058240" cy="1755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stephensizer.com/wp-content/uploads/2013/10/23-dragonsden.jpg"/>
          <p:cNvPicPr/>
          <p:nvPr/>
        </p:nvPicPr>
        <p:blipFill>
          <a:blip r:embed="rId3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3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U 1.1.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Cynlluniwch!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enderfynwch pwy fydd yr arweinydd neu a ydych yn mynd i gyflwyno fel tî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Mae rhoi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rolian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da yn ffurf hanfodol o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farchnat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i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fusnes ba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oherwydd mae'n cyfleu eich syniadau i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gwsmeriai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uddsoddwy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posibl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Defnyddiwch ddull amlgyfrwng: PowerPoint, arddangosiad neu boster, prototeip, delweddau ffotograffig/fide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914400" cy="6400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Creu effaith weledol gadarnhao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Picture 2" descr="http://i.telegraph.co.uk/multimedia/archive/02073/Team-Atomic-Pitch_2073634b.jpg"/>
          <p:cNvPicPr/>
          <p:nvPr/>
        </p:nvPicPr>
        <p:blipFill>
          <a:blip r:embed="rId2"/>
          <a:srcRect l="12377" t="0" r="12377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wrth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gyflwyn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, peidiwch byth â darllen yn uniongyrchol oddi ar y sleidiau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eidiwch byth â rhoi gormod o wybodaeth ar y sleidiau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eidiwch â defnyddio mwy na 7 sleid na chymryd mwy na 10 munud, a defnyddiwch ffont maint 30. Dylech ddechrau paratoi'r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rolian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wythnosau ymlaen llaw – byth ar y funud olaf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Dylech osgoi trawsnewidiadau ac animeiddiadau cymhleth. Cadwch bethau'n syml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Defnyddiwch stori i gyfleu eich pwyntiau a dangos i'r gynulleidfa beth mae eich cynnyrch yn gallu ei wneu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Y mwyaf y gallwch adael i'r gwrandäwr ddychmygu defnyddio'r cynnyrch, y mwyaf tebygol y bydd o wneud rhywbet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yddwch yn frwdfrydig am eich cynnyrch a'r ffaith eich bod yn gwybod digon amdano i allu ateb unrhyw gwestiynau y gallai pobl eu gofyn i ch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yddwch yn broffesiynol o ran eich ymddygiad a'ch ymddangosia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newsimg.bbc.co.uk/media/images/42647000/jpg/_42647787_levi_roots_203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5383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324000" y="5732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wnaeth Levi Roots froliant llwyddiannus ac ennill buddsoddiad o £50,000 gan y Dreigiau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8360" y="1628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Ymarferwch eich brolia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Ymarferwch bob trawsnewidiad ac amseria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Byddwch yn glir ac yn glywadw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Amrywiwch dôn eich llai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Defnyddiwch gyswllt llygai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Strwyuthurwch eich broliant ag agoriad dynamig a diweddglo cofiadwy sy'n tynnu sylw at bwynt gwerthu unigryw eich cynnyrch neu wasanaet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21:15:16Z</dcterms:created>
  <dc:creator>Eirian Evans</dc:creator>
  <dc:description/>
  <dc:language>en-US</dc:language>
  <cp:lastModifiedBy>TimData</cp:lastModifiedBy>
  <dcterms:modified xsi:type="dcterms:W3CDTF">2015-05-06T18:27:17Z</dcterms:modified>
  <cp:revision>8</cp:revision>
  <dc:subject/>
  <dc:title>Enterprise and Employability.</dc:title>
</cp:coreProperties>
</file>